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22C8-AE32-4672-97B7-2A017834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DC0E-4C6B-4493-A737-B1154CBA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E892-AB57-4AEA-85F0-D1CF47D6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ADB8-83C8-4749-AB15-DC290F60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8923-9B2E-4A77-B93F-5917E3F8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703D-0835-483D-AC25-85626D5D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F90B-0F73-40A1-868A-4B07DBC5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31C7-7A9B-40F1-A803-687A4E9D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2CA4-7D65-4ECB-9A63-E3EEEA4B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C72C-8FB9-455C-A6DC-9C37C05C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04E9-593E-4792-81C6-7EE2EB53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D52B-A393-40BA-B972-8678D220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DD1C-9559-43B6-9FEB-A6C6671CEA3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Part IX.</a:t>
            </a:r>
            <a:br>
              <a:rPr sz="7200"/>
            </a:b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600880" y="5578560"/>
            <a:ext cx="266688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05640" y="3263760"/>
            <a:ext cx="38124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3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72280" y="191304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81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81760" y="37497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62640" y="32637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43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124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505640" y="3263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886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00880" y="3749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0880" y="4206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00880" y="4635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00880" y="5092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00880" y="55785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00880" y="6035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81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36264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124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505640" y="3718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05640" y="4175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505640" y="4648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505640" y="6019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88688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1447920"/>
            <a:ext cx="8001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72280" y="144792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438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4276800"/>
            <a:ext cx="483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prece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330516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76240" y="591984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follow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7640" y="4842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+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5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909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0484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955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813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05640" y="5578560"/>
            <a:ext cx="38124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867280" y="5000760"/>
            <a:ext cx="266724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3600360"/>
            <a:ext cx="76212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10280" y="5000760"/>
            <a:ext cx="76212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228600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4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Parenthes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9480" y="1523880"/>
            <a:ext cx="5867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ir of parenthes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1905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53080" y="25909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553080" y="3048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4852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40863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29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10280" y="36003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91520" y="36003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72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153280" y="3600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67280" y="4086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67280" y="45435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7280" y="5000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867280" y="54579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59151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6372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940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29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1028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1028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01028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10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39152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152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91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91520" y="5883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91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72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15328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3505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429000"/>
            <a:ext cx="5334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h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152388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90720" y="42670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90720" y="510552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preced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1430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9092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00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280" y="5562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(((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371600" y="642456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follow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2880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382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954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545796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391520" y="4086000"/>
            <a:ext cx="0" cy="277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581280" y="5438880"/>
            <a:ext cx="1524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724280" y="4010040"/>
            <a:ext cx="381240" cy="19144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 Table 5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nd Marker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44792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ny operator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2133720"/>
            <a:ext cx="289548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2520" y="4495680"/>
            <a:ext cx="1143000" cy="142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724280" y="401004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581280" y="543888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24280" y="4889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724280" y="4432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34340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6252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4340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81280" y="44956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81280" y="49528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62720" y="1295280"/>
            <a:ext cx="0" cy="523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5562720" y="1143000"/>
            <a:ext cx="2895480" cy="4678200"/>
            <a:chOff x="5562720" y="1143000"/>
            <a:chExt cx="2895480" cy="4678200"/>
          </a:xfrm>
        </p:grpSpPr>
        <p:sp>
          <p:nvSpPr>
            <p:cNvPr id="596" name=""/>
            <p:cNvSpPr/>
            <p:nvPr/>
          </p:nvSpPr>
          <p:spPr>
            <a:xfrm>
              <a:off x="6095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95880" y="3000240"/>
              <a:ext cx="2286000" cy="277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77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38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20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01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15000" y="3000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15000" y="34574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9146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43718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15000" y="48290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5286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95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95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95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5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95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9588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77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47712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7712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77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477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58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58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5800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85800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38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38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38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38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38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620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20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20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20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001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001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00100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00100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62720" y="1143000"/>
              <a:ext cx="28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85800" y="2819520"/>
            <a:ext cx="487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480" y="27432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-mark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90720" y="4267080"/>
            <a:ext cx="1044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09680" y="4800600"/>
            <a:ext cx="1067040" cy="503280"/>
          </a:xfrm>
          <a:prstGeom prst="rightArrow">
            <a:avLst>
              <a:gd name="adj1" fmla="val 50000"/>
              <a:gd name="adj2" fmla="val 5300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4280" y="5438880"/>
            <a:ext cx="381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1143000"/>
            <a:ext cx="853452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2133720"/>
            <a:ext cx="8229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R-parser 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ith stat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,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wher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 start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based on LR table that has these two pa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 par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o-to p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Part &amp; Go-to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21002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34434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5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0" y="21002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19320" y="2986200"/>
            <a:ext cx="32004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4572000"/>
            <a:ext cx="3810240" cy="2144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ift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duce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7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29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3900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19320" y="16146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19520" y="16146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5248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268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19320" y="2100240"/>
            <a:ext cx="320040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86000" y="29862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32148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11430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ction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80120" y="15526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20858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57800" y="34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257800" y="25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20858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91320" y="2971800"/>
            <a:ext cx="266688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57800" y="4557600"/>
            <a:ext cx="3200400" cy="1352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578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38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91320" y="16002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1520" y="16002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24480" y="1600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5800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92468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791320" y="2085840"/>
            <a:ext cx="266688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0" y="29718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7162920" y="32004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81480" y="11286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o-to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69040" y="15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609480" y="4114800"/>
            <a:ext cx="8384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3520" y="106668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LR-tabl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9480" y="190512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3520" y="1889280"/>
            <a:ext cx="86104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onto pushd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ring &amp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66ccff"/>
                </a:solidFill>
                <a:latin typeface="Times New Roman"/>
              </a:rPr>
              <a:t>…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&gt;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s p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&amp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with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n the pushdown &amp; write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" y="39625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22360" y="4572000"/>
            <a:ext cx="1320840" cy="152280"/>
          </a:xfrm>
          <a:custGeom>
            <a:avLst/>
            <a:gdLst/>
            <a:ahLst/>
            <a:rect l="l" t="t" r="r" b="b"/>
            <a:pathLst>
              <a:path w="784" h="296">
                <a:moveTo>
                  <a:pt x="16" y="40"/>
                </a:moveTo>
                <a:cubicBezTo>
                  <a:pt x="8" y="20"/>
                  <a:pt x="0" y="0"/>
                  <a:pt x="64" y="40"/>
                </a:cubicBezTo>
                <a:cubicBezTo>
                  <a:pt x="128" y="80"/>
                  <a:pt x="280" y="264"/>
                  <a:pt x="400" y="280"/>
                </a:cubicBezTo>
                <a:cubicBezTo>
                  <a:pt x="520" y="296"/>
                  <a:pt x="652" y="216"/>
                  <a:pt x="784" y="136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3520" y="1143000"/>
            <a:ext cx="7848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2286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22096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R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62120" y="2666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2120" y="3048120"/>
            <a:ext cx="53316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2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2120" y="30481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2120" y="6629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76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1337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909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048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2193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765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05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62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1337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909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048120" y="304812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505320" y="304812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162920" y="3048120"/>
            <a:ext cx="3045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0120" y="3048120"/>
            <a:ext cx="30456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077320" y="304812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2590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629400" y="304812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6294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438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010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4582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629400" y="6629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629400" y="3048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553080" y="2590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2940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80988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419720" y="487692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-to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86200" y="3809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172200" y="4952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543564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47640" y="1130400"/>
            <a:ext cx="7925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5800" y="1981080"/>
            <a:ext cx="79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52560"/>
                <a:tab algn="l" pos="3238560"/>
                <a:tab algn="l" pos="3619440"/>
                <a:tab algn="l" pos="476244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.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434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055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6629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" y="1676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458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2590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895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3200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3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505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5800" y="4114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4419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580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5029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0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533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5638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6248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29400" y="6019920"/>
            <a:ext cx="2286000" cy="610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646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81680" y="2514600"/>
            <a:ext cx="0" cy="358128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 Table: 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ne parsing algorith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many algorithms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struction of LR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Basic algorith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f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struction of LR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85800" y="2666880"/>
            <a:ext cx="807732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Simple LR (S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ew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Canonical L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b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Lookahead LR (LA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st because the most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the same number of states as SL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Extended Grammar with a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Dummy Rule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33520" y="44956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948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600200"/>
            <a:ext cx="807696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xtend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with specia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arting ru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33520" y="4038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33520" y="2819520"/>
            <a:ext cx="8610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dummy rule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used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 token is endmarker, then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syntax analysi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successfully complet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33520" y="5521320"/>
            <a:ext cx="8381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ded grammar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3581280" y="2438280"/>
            <a:ext cx="2438640" cy="990720"/>
          </a:xfrm>
          <a:custGeom>
            <a:avLst/>
            <a:gdLst>
              <a:gd name="textAreaLeft" fmla="*/ 309600 w 2438640"/>
              <a:gd name="textAreaRight" fmla="*/ 2129040 w 243864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arsing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Two or more rules have the sam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hand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505320"/>
            <a:ext cx="76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nd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righ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han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side o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190760" y="1600200"/>
            <a:ext cx="1219320" cy="838080"/>
            <a:chOff x="4190760" y="1600200"/>
            <a:chExt cx="1219320" cy="838080"/>
          </a:xfrm>
        </p:grpSpPr>
        <p:sp>
          <p:nvSpPr>
            <p:cNvPr id="54" name=""/>
            <p:cNvSpPr/>
            <p:nvPr/>
          </p:nvSpPr>
          <p:spPr>
            <a:xfrm>
              <a:off x="449568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95680" y="1600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190760" y="20574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647960" y="20574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2428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8006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3581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cs-CZ" sz="30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: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2120" y="2133720"/>
            <a:ext cx="3581280" cy="1069200"/>
            <a:chOff x="762120" y="2133720"/>
            <a:chExt cx="3581280" cy="1069200"/>
          </a:xfrm>
        </p:grpSpPr>
        <p:sp>
          <p:nvSpPr>
            <p:cNvPr id="62" name=""/>
            <p:cNvSpPr/>
            <p:nvPr/>
          </p:nvSpPr>
          <p:spPr>
            <a:xfrm>
              <a:off x="762120" y="2133720"/>
              <a:ext cx="35812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30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133360" y="2666880"/>
              <a:ext cx="1600200" cy="536040"/>
              <a:chOff x="2133360" y="2666880"/>
              <a:chExt cx="1600200" cy="536040"/>
            </a:xfrm>
          </p:grpSpPr>
          <p:sp>
            <p:nvSpPr>
              <p:cNvPr id="64" name=""/>
              <p:cNvSpPr/>
              <p:nvPr/>
            </p:nvSpPr>
            <p:spPr>
              <a:xfrm rot="5400000">
                <a:off x="2856960" y="1942920"/>
                <a:ext cx="152640" cy="16002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6000" y="27432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hand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"/>
          <p:cNvSpPr/>
          <p:nvPr/>
        </p:nvSpPr>
        <p:spPr>
          <a:xfrm>
            <a:off x="3581280" y="3505320"/>
            <a:ext cx="243864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2438280"/>
            <a:ext cx="2438280" cy="990720"/>
          </a:xfrm>
          <a:custGeom>
            <a:avLst/>
            <a:gdLst>
              <a:gd name="textAreaLeft" fmla="*/ 309600 w 2438280"/>
              <a:gd name="textAreaRight" fmla="*/ 2128680 w 243828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72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58000" y="1600200"/>
            <a:ext cx="1219320" cy="838080"/>
            <a:chOff x="6858000" y="1600200"/>
            <a:chExt cx="1219320" cy="838080"/>
          </a:xfrm>
        </p:grpSpPr>
        <p:sp>
          <p:nvSpPr>
            <p:cNvPr id="76" name=""/>
            <p:cNvSpPr/>
            <p:nvPr/>
          </p:nvSpPr>
          <p:spPr>
            <a:xfrm>
              <a:off x="716292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62920" y="1600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858000" y="20574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315200" y="20574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9152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467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3505320"/>
            <a:ext cx="24382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029200" y="1600200"/>
            <a:ext cx="2057400" cy="782280"/>
            <a:chOff x="5029200" y="1600200"/>
            <a:chExt cx="2057400" cy="782280"/>
          </a:xfrm>
        </p:grpSpPr>
        <p:sp>
          <p:nvSpPr>
            <p:cNvPr id="85" name=""/>
            <p:cNvSpPr/>
            <p:nvPr/>
          </p:nvSpPr>
          <p:spPr>
            <a:xfrm>
              <a:off x="5410080" y="1600200"/>
              <a:ext cx="1295640" cy="78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02920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0572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9480" y="3886200"/>
            <a:ext cx="8305920" cy="3096000"/>
            <a:chOff x="609480" y="3886200"/>
            <a:chExt cx="8305920" cy="3096000"/>
          </a:xfrm>
        </p:grpSpPr>
        <p:sp>
          <p:nvSpPr>
            <p:cNvPr id="89" name=""/>
            <p:cNvSpPr/>
            <p:nvPr/>
          </p:nvSpPr>
          <p:spPr>
            <a:xfrm>
              <a:off x="838080" y="39625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2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5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34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01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1520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2960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2960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000640" y="5638680"/>
              <a:ext cx="228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76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6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5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448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008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1008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105520" y="563868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05520" y="4038480"/>
              <a:ext cx="3809880" cy="395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Which of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hese tre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create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" y="3886200"/>
              <a:ext cx="807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 Ambiguous grammar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480" y="4495680"/>
              <a:ext cx="4648320" cy="16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w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67480" y="4495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66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010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5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96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02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391520" y="49528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96080" y="4952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96080" y="4952880"/>
              <a:ext cx="5335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91320" y="4572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58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9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78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486400" y="5029200"/>
              <a:ext cx="5335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19920" y="50292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19920" y="5029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24816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432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nstruction of LR Table: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5800" y="2057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cs-CZ" sz="3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9480" y="3124080"/>
            <a:ext cx="80773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tems f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09480" y="1066680"/>
            <a:ext cx="777240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tem is a rule of CFG with </a:t>
            </a:r>
            <a:r>
              <a:rPr b="0" lang="cs-CZ" sz="31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the righ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ide of rule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09480" y="4572000"/>
            <a:ext cx="7696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 on the pushdown top and a prefix of the input is eventually reduced to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z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nd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reduced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0948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09480" y="19810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09480" y="30481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y the following rule unti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not be chang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09480" y="114300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losure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3520" y="2286000"/>
            <a:ext cx="57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0948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33520" y="2819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3200400"/>
            <a:ext cx="83059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948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9480" y="4343400"/>
            <a:ext cx="76964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0948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09480" y="5486400"/>
            <a:ext cx="8382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09480" y="6553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3520" y="2362320"/>
            <a:ext cx="861048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948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3520" y="3657600"/>
            <a:ext cx="830556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0948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3520" y="5029200"/>
            <a:ext cx="830556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0948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/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" y="205740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&lt;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it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09480" y="31240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09480" y="1066680"/>
            <a:ext cx="77724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t of all prefixes of the right-hand sides of rule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5812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480" y="426708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09480" y="487692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0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09480" y="537840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1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480" y="5835600"/>
            <a:ext cx="8077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5400000">
            <a:off x="175248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5400000">
            <a:off x="419076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5400000">
            <a:off x="6895440" y="4806720"/>
            <a:ext cx="152640" cy="2971800"/>
          </a:xfrm>
          <a:custGeom>
            <a:avLst/>
            <a:gdLst>
              <a:gd name="textAreaLeft" fmla="*/ 0 w 152640"/>
              <a:gd name="textAreaRight" fmla="*/ 55080 w 15264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27560" y="6369120"/>
            <a:ext cx="207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165480" y="6369120"/>
            <a:ext cx="2055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28520" y="6369120"/>
            <a:ext cx="3360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228600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2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3520" y="274320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5400000">
            <a:off x="2247480" y="262872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5400000">
            <a:off x="4609440" y="26287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5400000">
            <a:off x="6857280" y="2666880"/>
            <a:ext cx="152640" cy="1066680"/>
          </a:xfrm>
          <a:custGeom>
            <a:avLst/>
            <a:gdLst>
              <a:gd name="textAreaLeft" fmla="*/ 0 w 152640"/>
              <a:gd name="textAreaRight" fmla="*/ 5508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108440" y="3276720"/>
            <a:ext cx="2262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698640" y="3276720"/>
            <a:ext cx="2221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137280" y="3276720"/>
            <a:ext cx="2183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48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3520" y="380988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3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33520" y="426708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5400000">
            <a:off x="2247480" y="415296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5400000">
            <a:off x="4609800" y="415296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5400000">
            <a:off x="6857640" y="4191120"/>
            <a:ext cx="152280" cy="106668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08000" y="4800600"/>
            <a:ext cx="2465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588840" y="4800600"/>
            <a:ext cx="2442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81840" y="4800600"/>
            <a:ext cx="2293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948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3520" y="5257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3520" y="5715000"/>
            <a:ext cx="82296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57200" y="12193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33520" y="1905120"/>
            <a:ext cx="77724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3520" y="2895480"/>
            <a:ext cx="861048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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520" y="1143000"/>
            <a:ext cx="80769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33520" y="2286000"/>
            <a:ext cx="7924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9480" y="3124080"/>
            <a:ext cx="853452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685800" y="3657600"/>
            <a:ext cx="7772400" cy="1333080"/>
            <a:chOff x="685800" y="3657600"/>
            <a:chExt cx="7772400" cy="1333080"/>
          </a:xfrm>
        </p:grpSpPr>
        <p:sp>
          <p:nvSpPr>
            <p:cNvPr id="883" name=""/>
            <p:cNvSpPr/>
            <p:nvPr/>
          </p:nvSpPr>
          <p:spPr>
            <a:xfrm>
              <a:off x="685800" y="41148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838080" y="3657600"/>
              <a:ext cx="304560" cy="304560"/>
              <a:chOff x="838080" y="3657600"/>
              <a:chExt cx="304560" cy="304560"/>
            </a:xfrm>
          </p:grpSpPr>
          <p:sp>
            <p:nvSpPr>
              <p:cNvPr id="885" name=""/>
              <p:cNvSpPr/>
              <p:nvPr/>
            </p:nvSpPr>
            <p:spPr>
              <a:xfrm>
                <a:off x="838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939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685800" y="3657600"/>
            <a:ext cx="7772400" cy="2171160"/>
            <a:chOff x="685800" y="3657600"/>
            <a:chExt cx="7772400" cy="2171160"/>
          </a:xfrm>
        </p:grpSpPr>
        <p:sp>
          <p:nvSpPr>
            <p:cNvPr id="888" name=""/>
            <p:cNvSpPr/>
            <p:nvPr/>
          </p:nvSpPr>
          <p:spPr>
            <a:xfrm>
              <a:off x="685800" y="49528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1981080" y="3657600"/>
              <a:ext cx="304560" cy="304560"/>
              <a:chOff x="1981080" y="3657600"/>
              <a:chExt cx="304560" cy="304560"/>
            </a:xfrm>
          </p:grpSpPr>
          <p:sp>
            <p:nvSpPr>
              <p:cNvPr id="890" name=""/>
              <p:cNvSpPr/>
              <p:nvPr/>
            </p:nvSpPr>
            <p:spPr>
              <a:xfrm>
                <a:off x="1981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2082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2" name=""/>
          <p:cNvGrpSpPr/>
          <p:nvPr/>
        </p:nvGrpSpPr>
        <p:grpSpPr>
          <a:xfrm>
            <a:off x="685800" y="3657600"/>
            <a:ext cx="7772400" cy="3085560"/>
            <a:chOff x="685800" y="3657600"/>
            <a:chExt cx="7772400" cy="3085560"/>
          </a:xfrm>
        </p:grpSpPr>
        <p:sp>
          <p:nvSpPr>
            <p:cNvPr id="893" name=""/>
            <p:cNvSpPr/>
            <p:nvPr/>
          </p:nvSpPr>
          <p:spPr>
            <a:xfrm>
              <a:off x="685800" y="58672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3429000" y="3657600"/>
              <a:ext cx="304560" cy="304560"/>
              <a:chOff x="3429000" y="3657600"/>
              <a:chExt cx="304560" cy="304560"/>
            </a:xfrm>
          </p:grpSpPr>
          <p:sp>
            <p:nvSpPr>
              <p:cNvPr id="895" name=""/>
              <p:cNvSpPr/>
              <p:nvPr/>
            </p:nvSpPr>
            <p:spPr>
              <a:xfrm>
                <a:off x="342900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353052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09480" y="1600200"/>
            <a:ext cx="8534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838080" y="2133360"/>
            <a:ext cx="304560" cy="304560"/>
            <a:chOff x="838080" y="2133360"/>
            <a:chExt cx="304560" cy="304560"/>
          </a:xfrm>
        </p:grpSpPr>
        <p:sp>
          <p:nvSpPr>
            <p:cNvPr id="901" name=""/>
            <p:cNvSpPr/>
            <p:nvPr/>
          </p:nvSpPr>
          <p:spPr>
            <a:xfrm>
              <a:off x="838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939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1981080" y="2133360"/>
            <a:ext cx="304560" cy="304560"/>
            <a:chOff x="1981080" y="2133360"/>
            <a:chExt cx="304560" cy="304560"/>
          </a:xfrm>
        </p:grpSpPr>
        <p:sp>
          <p:nvSpPr>
            <p:cNvPr id="904" name=""/>
            <p:cNvSpPr/>
            <p:nvPr/>
          </p:nvSpPr>
          <p:spPr>
            <a:xfrm>
              <a:off x="1981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082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352680" y="2133360"/>
            <a:ext cx="304560" cy="304560"/>
            <a:chOff x="3352680" y="2133360"/>
            <a:chExt cx="304560" cy="304560"/>
          </a:xfrm>
        </p:grpSpPr>
        <p:sp>
          <p:nvSpPr>
            <p:cNvPr id="907" name=""/>
            <p:cNvSpPr/>
            <p:nvPr/>
          </p:nvSpPr>
          <p:spPr>
            <a:xfrm>
              <a:off x="33526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4542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685800" y="2133360"/>
            <a:ext cx="7772400" cy="1257120"/>
            <a:chOff x="685800" y="2133360"/>
            <a:chExt cx="7772400" cy="1257120"/>
          </a:xfrm>
        </p:grpSpPr>
        <p:sp>
          <p:nvSpPr>
            <p:cNvPr id="910" name=""/>
            <p:cNvSpPr/>
            <p:nvPr/>
          </p:nvSpPr>
          <p:spPr>
            <a:xfrm>
              <a:off x="685800" y="25146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4419360" y="2133360"/>
              <a:ext cx="304560" cy="304560"/>
              <a:chOff x="4419360" y="2133360"/>
              <a:chExt cx="304560" cy="304560"/>
            </a:xfrm>
          </p:grpSpPr>
          <p:sp>
            <p:nvSpPr>
              <p:cNvPr id="912" name=""/>
              <p:cNvSpPr/>
              <p:nvPr/>
            </p:nvSpPr>
            <p:spPr>
              <a:xfrm>
                <a:off x="441936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4520880" y="21333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4" name=""/>
          <p:cNvGrpSpPr/>
          <p:nvPr/>
        </p:nvGrpSpPr>
        <p:grpSpPr>
          <a:xfrm>
            <a:off x="685800" y="2133720"/>
            <a:ext cx="7772400" cy="2095200"/>
            <a:chOff x="685800" y="2133720"/>
            <a:chExt cx="7772400" cy="2095200"/>
          </a:xfrm>
        </p:grpSpPr>
        <p:sp>
          <p:nvSpPr>
            <p:cNvPr id="915" name=""/>
            <p:cNvSpPr/>
            <p:nvPr/>
          </p:nvSpPr>
          <p:spPr>
            <a:xfrm>
              <a:off x="685800" y="335304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5715000" y="2133720"/>
              <a:ext cx="304200" cy="304560"/>
              <a:chOff x="5715000" y="2133720"/>
              <a:chExt cx="304200" cy="304560"/>
            </a:xfrm>
          </p:grpSpPr>
          <p:sp>
            <p:nvSpPr>
              <p:cNvPr id="917" name=""/>
              <p:cNvSpPr/>
              <p:nvPr/>
            </p:nvSpPr>
            <p:spPr>
              <a:xfrm>
                <a:off x="571500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5816520" y="213372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9" name=""/>
          <p:cNvGrpSpPr/>
          <p:nvPr/>
        </p:nvGrpSpPr>
        <p:grpSpPr>
          <a:xfrm>
            <a:off x="685800" y="2133720"/>
            <a:ext cx="7772400" cy="3375360"/>
            <a:chOff x="685800" y="2133720"/>
            <a:chExt cx="7772400" cy="3375360"/>
          </a:xfrm>
        </p:grpSpPr>
        <p:sp>
          <p:nvSpPr>
            <p:cNvPr id="920" name=""/>
            <p:cNvSpPr/>
            <p:nvPr/>
          </p:nvSpPr>
          <p:spPr>
            <a:xfrm>
              <a:off x="685800" y="4267440"/>
              <a:ext cx="777240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6781680" y="2133720"/>
              <a:ext cx="304560" cy="304560"/>
              <a:chOff x="6781680" y="2133720"/>
              <a:chExt cx="304560" cy="304560"/>
            </a:xfrm>
          </p:grpSpPr>
          <p:sp>
            <p:nvSpPr>
              <p:cNvPr id="922" name=""/>
              <p:cNvSpPr/>
              <p:nvPr/>
            </p:nvSpPr>
            <p:spPr>
              <a:xfrm>
                <a:off x="678168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6883200" y="213372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685800" y="2133360"/>
            <a:ext cx="7772400" cy="4228920"/>
            <a:chOff x="685800" y="2133360"/>
            <a:chExt cx="7772400" cy="4228920"/>
          </a:xfrm>
        </p:grpSpPr>
        <p:grpSp>
          <p:nvGrpSpPr>
            <p:cNvPr id="925" name=""/>
            <p:cNvGrpSpPr/>
            <p:nvPr/>
          </p:nvGrpSpPr>
          <p:grpSpPr>
            <a:xfrm>
              <a:off x="8001000" y="2133360"/>
              <a:ext cx="304200" cy="304560"/>
              <a:chOff x="8001000" y="2133360"/>
              <a:chExt cx="304200" cy="304560"/>
            </a:xfrm>
          </p:grpSpPr>
          <p:sp>
            <p:nvSpPr>
              <p:cNvPr id="926" name=""/>
              <p:cNvSpPr/>
              <p:nvPr/>
            </p:nvSpPr>
            <p:spPr>
              <a:xfrm>
                <a:off x="800100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8102520" y="2133360"/>
                <a:ext cx="20268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8" name=""/>
            <p:cNvSpPr/>
            <p:nvPr/>
          </p:nvSpPr>
          <p:spPr>
            <a:xfrm>
              <a:off x="685800" y="54864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"/>
          <p:cNvSpPr/>
          <p:nvPr/>
        </p:nvSpPr>
        <p:spPr>
          <a:xfrm rot="5400000">
            <a:off x="3946320" y="11570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09480" y="4419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3520" y="403848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09480" y="4800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4419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09480" y="5181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4800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9480" y="5562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33520" y="51814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09480" y="5943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3520" y="5562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09480" y="6324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3520" y="5943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957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-Up Par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4343400"/>
            <a:ext cx="2971800" cy="990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4267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38862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352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962520"/>
            <a:ext cx="167616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3886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(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65840" y="3352680"/>
            <a:ext cx="106668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3352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32520" y="3352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9860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772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3352680"/>
            <a:ext cx="106704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24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46483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48006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38098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42670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518148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71500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1547280" y="4623840"/>
            <a:ext cx="5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429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4038480"/>
            <a:ext cx="1219320" cy="83844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72200" y="47242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54100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574200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quence of rules used i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ightmost deri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ized 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e &amp; easy-to-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5909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 of Bottom-Up par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52578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724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54100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55627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724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LR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220968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power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33520" y="1143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533520" y="1295280"/>
            <a:ext cx="7924680" cy="2135160"/>
            <a:chOff x="533520" y="1295280"/>
            <a:chExt cx="7924680" cy="2135160"/>
          </a:xfrm>
        </p:grpSpPr>
        <p:grpSp>
          <p:nvGrpSpPr>
            <p:cNvPr id="963" name=""/>
            <p:cNvGrpSpPr/>
            <p:nvPr/>
          </p:nvGrpSpPr>
          <p:grpSpPr>
            <a:xfrm>
              <a:off x="533520" y="1295280"/>
              <a:ext cx="7924680" cy="2080080"/>
              <a:chOff x="533520" y="1295280"/>
              <a:chExt cx="7924680" cy="2080080"/>
            </a:xfrm>
          </p:grpSpPr>
          <p:sp>
            <p:nvSpPr>
              <p:cNvPr id="964" name=""/>
              <p:cNvSpPr/>
              <p:nvPr/>
            </p:nvSpPr>
            <p:spPr>
              <a:xfrm>
                <a:off x="533520" y="2133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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4572000" y="1295280"/>
                <a:ext cx="304560" cy="304560"/>
                <a:chOff x="4572000" y="1295280"/>
                <a:chExt cx="304560" cy="30456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457200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V="1">
                  <a:off x="467352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8" name=""/>
            <p:cNvSpPr/>
            <p:nvPr/>
          </p:nvSpPr>
          <p:spPr>
            <a:xfrm>
              <a:off x="609480" y="3429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533520" y="3429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533520" y="3581280"/>
            <a:ext cx="7924680" cy="2135160"/>
            <a:chOff x="533520" y="3581280"/>
            <a:chExt cx="7924680" cy="2135160"/>
          </a:xfrm>
        </p:grpSpPr>
        <p:grpSp>
          <p:nvGrpSpPr>
            <p:cNvPr id="971" name=""/>
            <p:cNvGrpSpPr/>
            <p:nvPr/>
          </p:nvGrpSpPr>
          <p:grpSpPr>
            <a:xfrm>
              <a:off x="533520" y="3581280"/>
              <a:ext cx="7924680" cy="2080080"/>
              <a:chOff x="533520" y="3581280"/>
              <a:chExt cx="7924680" cy="2080080"/>
            </a:xfrm>
          </p:grpSpPr>
          <p:sp>
            <p:nvSpPr>
              <p:cNvPr id="972" name=""/>
              <p:cNvSpPr/>
              <p:nvPr/>
            </p:nvSpPr>
            <p:spPr>
              <a:xfrm>
                <a:off x="533520" y="4419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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3" name=""/>
              <p:cNvGrpSpPr/>
              <p:nvPr/>
            </p:nvGrpSpPr>
            <p:grpSpPr>
              <a:xfrm>
                <a:off x="4419720" y="3581280"/>
                <a:ext cx="304200" cy="304560"/>
                <a:chOff x="4419720" y="3581280"/>
                <a:chExt cx="304200" cy="30456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4419720" y="3784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V="1">
                  <a:off x="4521240" y="358128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6" name=""/>
            <p:cNvSpPr/>
            <p:nvPr/>
          </p:nvSpPr>
          <p:spPr>
            <a:xfrm>
              <a:off x="609480" y="5715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33520" y="571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533520" y="1295280"/>
            <a:ext cx="7619760" cy="840960"/>
            <a:chOff x="533520" y="1295280"/>
            <a:chExt cx="7619760" cy="840960"/>
          </a:xfrm>
        </p:grpSpPr>
        <p:grpSp>
          <p:nvGrpSpPr>
            <p:cNvPr id="979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980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"/>
            <p:cNvSpPr/>
            <p:nvPr/>
          </p:nvSpPr>
          <p:spPr>
            <a:xfrm>
              <a:off x="533520" y="167652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533520" y="3581280"/>
            <a:ext cx="7619760" cy="764640"/>
            <a:chOff x="533520" y="3581280"/>
            <a:chExt cx="7619760" cy="764640"/>
          </a:xfrm>
        </p:grpSpPr>
        <p:grpSp>
          <p:nvGrpSpPr>
            <p:cNvPr id="984" name=""/>
            <p:cNvGrpSpPr/>
            <p:nvPr/>
          </p:nvGrpSpPr>
          <p:grpSpPr>
            <a:xfrm>
              <a:off x="3352680" y="3581280"/>
              <a:ext cx="304560" cy="304560"/>
              <a:chOff x="3352680" y="3581280"/>
              <a:chExt cx="304560" cy="304560"/>
            </a:xfrm>
          </p:grpSpPr>
          <p:sp>
            <p:nvSpPr>
              <p:cNvPr id="985" name=""/>
              <p:cNvSpPr/>
              <p:nvPr/>
            </p:nvSpPr>
            <p:spPr>
              <a:xfrm>
                <a:off x="3352680" y="3784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3454200" y="3581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>
              <a:off x="533520" y="388620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533520" y="5867280"/>
            <a:ext cx="7848360" cy="839880"/>
            <a:chOff x="533520" y="5867280"/>
            <a:chExt cx="7848360" cy="839880"/>
          </a:xfrm>
        </p:grpSpPr>
        <p:sp>
          <p:nvSpPr>
            <p:cNvPr id="989" name=""/>
            <p:cNvSpPr/>
            <p:nvPr/>
          </p:nvSpPr>
          <p:spPr>
            <a:xfrm>
              <a:off x="60948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533520" y="5867280"/>
              <a:ext cx="7619760" cy="764640"/>
              <a:chOff x="533520" y="5867280"/>
              <a:chExt cx="7619760" cy="76464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3352680" y="5867280"/>
                <a:ext cx="304560" cy="304560"/>
                <a:chOff x="3352680" y="5867280"/>
                <a:chExt cx="304560" cy="3045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52680" y="6070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3454200" y="5867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>
                <a:off x="533520" y="6172200"/>
                <a:ext cx="761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3520" y="1143000"/>
            <a:ext cx="861048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999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01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3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04" name=""/>
            <p:cNvGrpSpPr/>
            <p:nvPr/>
          </p:nvGrpSpPr>
          <p:grpSpPr>
            <a:xfrm>
              <a:off x="1981080" y="1600200"/>
              <a:ext cx="304560" cy="304560"/>
              <a:chOff x="1981080" y="1600200"/>
              <a:chExt cx="304560" cy="304560"/>
            </a:xfrm>
          </p:grpSpPr>
          <p:sp>
            <p:nvSpPr>
              <p:cNvPr id="1005" name=""/>
              <p:cNvSpPr/>
              <p:nvPr/>
            </p:nvSpPr>
            <p:spPr>
              <a:xfrm>
                <a:off x="19810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20826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609480" y="1600200"/>
            <a:ext cx="8229600" cy="2491200"/>
            <a:chOff x="609480" y="1600200"/>
            <a:chExt cx="8229600" cy="2491200"/>
          </a:xfrm>
        </p:grpSpPr>
        <p:sp>
          <p:nvSpPr>
            <p:cNvPr id="1009" name=""/>
            <p:cNvSpPr/>
            <p:nvPr/>
          </p:nvSpPr>
          <p:spPr>
            <a:xfrm>
              <a:off x="609480" y="3581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3352680" y="1600200"/>
              <a:ext cx="304560" cy="304560"/>
              <a:chOff x="3352680" y="1600200"/>
              <a:chExt cx="304560" cy="304560"/>
            </a:xfrm>
          </p:grpSpPr>
          <p:sp>
            <p:nvSpPr>
              <p:cNvPr id="1011" name=""/>
              <p:cNvSpPr/>
              <p:nvPr/>
            </p:nvSpPr>
            <p:spPr>
              <a:xfrm>
                <a:off x="3352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3454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3" name=""/>
          <p:cNvGrpSpPr/>
          <p:nvPr/>
        </p:nvGrpSpPr>
        <p:grpSpPr>
          <a:xfrm>
            <a:off x="609480" y="1600200"/>
            <a:ext cx="8229600" cy="2872440"/>
            <a:chOff x="609480" y="1600200"/>
            <a:chExt cx="8229600" cy="2872440"/>
          </a:xfrm>
        </p:grpSpPr>
        <p:sp>
          <p:nvSpPr>
            <p:cNvPr id="1014" name=""/>
            <p:cNvSpPr/>
            <p:nvPr/>
          </p:nvSpPr>
          <p:spPr>
            <a:xfrm>
              <a:off x="609480" y="39625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4419720" y="1600200"/>
              <a:ext cx="304200" cy="304560"/>
              <a:chOff x="4419720" y="1600200"/>
              <a:chExt cx="304200" cy="304560"/>
            </a:xfrm>
          </p:grpSpPr>
          <p:sp>
            <p:nvSpPr>
              <p:cNvPr id="1016" name=""/>
              <p:cNvSpPr/>
              <p:nvPr/>
            </p:nvSpPr>
            <p:spPr>
              <a:xfrm>
                <a:off x="4419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4521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"/>
          <p:cNvGrpSpPr/>
          <p:nvPr/>
        </p:nvGrpSpPr>
        <p:grpSpPr>
          <a:xfrm>
            <a:off x="609480" y="1600200"/>
            <a:ext cx="8229600" cy="3253320"/>
            <a:chOff x="609480" y="1600200"/>
            <a:chExt cx="8229600" cy="3253320"/>
          </a:xfrm>
        </p:grpSpPr>
        <p:sp>
          <p:nvSpPr>
            <p:cNvPr id="1019" name=""/>
            <p:cNvSpPr/>
            <p:nvPr/>
          </p:nvSpPr>
          <p:spPr>
            <a:xfrm>
              <a:off x="609480" y="43434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5791320" y="1600200"/>
              <a:ext cx="304200" cy="304560"/>
              <a:chOff x="5791320" y="1600200"/>
              <a:chExt cx="304200" cy="304560"/>
            </a:xfrm>
          </p:grpSpPr>
          <p:sp>
            <p:nvSpPr>
              <p:cNvPr id="1021" name=""/>
              <p:cNvSpPr/>
              <p:nvPr/>
            </p:nvSpPr>
            <p:spPr>
              <a:xfrm>
                <a:off x="5791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5892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3" name=""/>
          <p:cNvGrpSpPr/>
          <p:nvPr/>
        </p:nvGrpSpPr>
        <p:grpSpPr>
          <a:xfrm>
            <a:off x="609480" y="1600200"/>
            <a:ext cx="8229600" cy="3634200"/>
            <a:chOff x="609480" y="1600200"/>
            <a:chExt cx="8229600" cy="3634200"/>
          </a:xfrm>
        </p:grpSpPr>
        <p:sp>
          <p:nvSpPr>
            <p:cNvPr id="1024" name=""/>
            <p:cNvSpPr/>
            <p:nvPr/>
          </p:nvSpPr>
          <p:spPr>
            <a:xfrm>
              <a:off x="609480" y="4724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6781680" y="1600200"/>
              <a:ext cx="304560" cy="304560"/>
              <a:chOff x="6781680" y="1600200"/>
              <a:chExt cx="304560" cy="304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6781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6883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8" name=""/>
          <p:cNvSpPr/>
          <p:nvPr/>
        </p:nvSpPr>
        <p:spPr>
          <a:xfrm>
            <a:off x="609480" y="5638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609480" y="5790960"/>
            <a:ext cx="7848720" cy="839880"/>
            <a:chOff x="609480" y="5790960"/>
            <a:chExt cx="7848720" cy="839880"/>
          </a:xfrm>
        </p:grpSpPr>
        <p:sp>
          <p:nvSpPr>
            <p:cNvPr id="1030" name=""/>
            <p:cNvSpPr/>
            <p:nvPr/>
          </p:nvSpPr>
          <p:spPr>
            <a:xfrm>
              <a:off x="685800" y="66294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1" name=""/>
            <p:cNvGrpSpPr/>
            <p:nvPr/>
          </p:nvGrpSpPr>
          <p:grpSpPr>
            <a:xfrm>
              <a:off x="609480" y="5790960"/>
              <a:ext cx="7620120" cy="764640"/>
              <a:chOff x="609480" y="5790960"/>
              <a:chExt cx="7620120" cy="76464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3200400" y="5790960"/>
                <a:ext cx="304560" cy="304560"/>
                <a:chOff x="3200400" y="5790960"/>
                <a:chExt cx="304560" cy="30456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3200400" y="59940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flipV="1">
                  <a:off x="3301920" y="5790960"/>
                  <a:ext cx="20304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"/>
              <p:cNvSpPr/>
              <p:nvPr/>
            </p:nvSpPr>
            <p:spPr>
              <a:xfrm>
                <a:off x="609480" y="6095880"/>
                <a:ext cx="76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6" name=""/>
          <p:cNvGrpSpPr/>
          <p:nvPr/>
        </p:nvGrpSpPr>
        <p:grpSpPr>
          <a:xfrm>
            <a:off x="609480" y="1600200"/>
            <a:ext cx="8229600" cy="4040280"/>
            <a:chOff x="609480" y="1600200"/>
            <a:chExt cx="8229600" cy="4040280"/>
          </a:xfrm>
        </p:grpSpPr>
        <p:grpSp>
          <p:nvGrpSpPr>
            <p:cNvPr id="1037" name=""/>
            <p:cNvGrpSpPr/>
            <p:nvPr/>
          </p:nvGrpSpPr>
          <p:grpSpPr>
            <a:xfrm>
              <a:off x="609480" y="1600200"/>
              <a:ext cx="8229600" cy="4015440"/>
              <a:chOff x="609480" y="1600200"/>
              <a:chExt cx="8229600" cy="4015440"/>
            </a:xfrm>
          </p:grpSpPr>
          <p:sp>
            <p:nvSpPr>
              <p:cNvPr id="1038" name=""/>
              <p:cNvSpPr/>
              <p:nvPr/>
            </p:nvSpPr>
            <p:spPr>
              <a:xfrm>
                <a:off x="609480" y="5105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9" name=""/>
              <p:cNvGrpSpPr/>
              <p:nvPr/>
            </p:nvGrpSpPr>
            <p:grpSpPr>
              <a:xfrm>
                <a:off x="8077320" y="1600200"/>
                <a:ext cx="304200" cy="304560"/>
                <a:chOff x="8077320" y="1600200"/>
                <a:chExt cx="304200" cy="30456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807732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8178840" y="16002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2" name=""/>
            <p:cNvSpPr/>
            <p:nvPr/>
          </p:nvSpPr>
          <p:spPr>
            <a:xfrm>
              <a:off x="685800" y="56386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070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073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076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079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082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085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33520" y="1143000"/>
            <a:ext cx="830556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1091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93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5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96" name=""/>
            <p:cNvGrpSpPr/>
            <p:nvPr/>
          </p:nvGrpSpPr>
          <p:grpSpPr>
            <a:xfrm>
              <a:off x="2133720" y="1600200"/>
              <a:ext cx="304200" cy="304560"/>
              <a:chOff x="2133720" y="1600200"/>
              <a:chExt cx="304200" cy="304560"/>
            </a:xfrm>
          </p:grpSpPr>
          <p:sp>
            <p:nvSpPr>
              <p:cNvPr id="1097" name=""/>
              <p:cNvSpPr/>
              <p:nvPr/>
            </p:nvSpPr>
            <p:spPr>
              <a:xfrm>
                <a:off x="2133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2235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609480" y="1600200"/>
            <a:ext cx="8229600" cy="2415240"/>
            <a:chOff x="609480" y="1600200"/>
            <a:chExt cx="8229600" cy="2415240"/>
          </a:xfrm>
        </p:grpSpPr>
        <p:sp>
          <p:nvSpPr>
            <p:cNvPr id="1101" name=""/>
            <p:cNvSpPr/>
            <p:nvPr/>
          </p:nvSpPr>
          <p:spPr>
            <a:xfrm>
              <a:off x="609480" y="35053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3505320" y="1600200"/>
              <a:ext cx="304200" cy="304560"/>
              <a:chOff x="3505320" y="1600200"/>
              <a:chExt cx="304200" cy="304560"/>
            </a:xfrm>
          </p:grpSpPr>
          <p:sp>
            <p:nvSpPr>
              <p:cNvPr id="1103" name=""/>
              <p:cNvSpPr/>
              <p:nvPr/>
            </p:nvSpPr>
            <p:spPr>
              <a:xfrm>
                <a:off x="3505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3606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5" name=""/>
          <p:cNvGrpSpPr/>
          <p:nvPr/>
        </p:nvGrpSpPr>
        <p:grpSpPr>
          <a:xfrm>
            <a:off x="609480" y="1600200"/>
            <a:ext cx="8229600" cy="2796120"/>
            <a:chOff x="609480" y="1600200"/>
            <a:chExt cx="8229600" cy="2796120"/>
          </a:xfrm>
        </p:grpSpPr>
        <p:sp>
          <p:nvSpPr>
            <p:cNvPr id="1106" name=""/>
            <p:cNvSpPr/>
            <p:nvPr/>
          </p:nvSpPr>
          <p:spPr>
            <a:xfrm>
              <a:off x="609480" y="38862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4495680" y="1600200"/>
              <a:ext cx="304560" cy="304560"/>
              <a:chOff x="4495680" y="1600200"/>
              <a:chExt cx="304560" cy="304560"/>
            </a:xfrm>
          </p:grpSpPr>
          <p:sp>
            <p:nvSpPr>
              <p:cNvPr id="1108" name=""/>
              <p:cNvSpPr/>
              <p:nvPr/>
            </p:nvSpPr>
            <p:spPr>
              <a:xfrm>
                <a:off x="4495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4597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0" name=""/>
          <p:cNvGrpSpPr/>
          <p:nvPr/>
        </p:nvGrpSpPr>
        <p:grpSpPr>
          <a:xfrm>
            <a:off x="609480" y="1600200"/>
            <a:ext cx="8229600" cy="3177000"/>
            <a:chOff x="609480" y="1600200"/>
            <a:chExt cx="8229600" cy="3177000"/>
          </a:xfrm>
        </p:grpSpPr>
        <p:grpSp>
          <p:nvGrpSpPr>
            <p:cNvPr id="1111" name=""/>
            <p:cNvGrpSpPr/>
            <p:nvPr/>
          </p:nvGrpSpPr>
          <p:grpSpPr>
            <a:xfrm>
              <a:off x="609480" y="1600200"/>
              <a:ext cx="8229600" cy="3177000"/>
              <a:chOff x="609480" y="1600200"/>
              <a:chExt cx="8229600" cy="3177000"/>
            </a:xfrm>
          </p:grpSpPr>
          <p:sp>
            <p:nvSpPr>
              <p:cNvPr id="1112" name=""/>
              <p:cNvSpPr/>
              <p:nvPr/>
            </p:nvSpPr>
            <p:spPr>
              <a:xfrm>
                <a:off x="609480" y="426708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3" name=""/>
              <p:cNvGrpSpPr/>
              <p:nvPr/>
            </p:nvGrpSpPr>
            <p:grpSpPr>
              <a:xfrm>
                <a:off x="5715000" y="1600200"/>
                <a:ext cx="304560" cy="304560"/>
                <a:chOff x="5715000" y="1600200"/>
                <a:chExt cx="304560" cy="30456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571500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V="1">
                  <a:off x="5816520" y="16002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6" name=""/>
            <p:cNvSpPr/>
            <p:nvPr/>
          </p:nvSpPr>
          <p:spPr>
            <a:xfrm>
              <a:off x="685800" y="47242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609480" y="4724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609480" y="4876560"/>
            <a:ext cx="8229600" cy="1104840"/>
            <a:chOff x="609480" y="4876560"/>
            <a:chExt cx="8229600" cy="1104840"/>
          </a:xfrm>
        </p:grpSpPr>
        <p:sp>
          <p:nvSpPr>
            <p:cNvPr id="1119" name=""/>
            <p:cNvSpPr/>
            <p:nvPr/>
          </p:nvSpPr>
          <p:spPr>
            <a:xfrm>
              <a:off x="609480" y="51055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3429000" y="4876560"/>
              <a:ext cx="304560" cy="304560"/>
              <a:chOff x="3429000" y="4876560"/>
              <a:chExt cx="304560" cy="304560"/>
            </a:xfrm>
          </p:grpSpPr>
          <p:sp>
            <p:nvSpPr>
              <p:cNvPr id="1121" name=""/>
              <p:cNvSpPr/>
              <p:nvPr/>
            </p:nvSpPr>
            <p:spPr>
              <a:xfrm>
                <a:off x="34290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35305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3" name=""/>
          <p:cNvGrpSpPr/>
          <p:nvPr/>
        </p:nvGrpSpPr>
        <p:grpSpPr>
          <a:xfrm>
            <a:off x="609480" y="4876560"/>
            <a:ext cx="8229600" cy="1500840"/>
            <a:chOff x="609480" y="4876560"/>
            <a:chExt cx="8229600" cy="1500840"/>
          </a:xfrm>
        </p:grpSpPr>
        <p:sp>
          <p:nvSpPr>
            <p:cNvPr id="1124" name=""/>
            <p:cNvSpPr/>
            <p:nvPr/>
          </p:nvSpPr>
          <p:spPr>
            <a:xfrm>
              <a:off x="609480" y="5867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4800600" y="4876560"/>
              <a:ext cx="304560" cy="304560"/>
              <a:chOff x="4800600" y="4876560"/>
              <a:chExt cx="304560" cy="304560"/>
            </a:xfrm>
          </p:grpSpPr>
          <p:sp>
            <p:nvSpPr>
              <p:cNvPr id="1126" name=""/>
              <p:cNvSpPr/>
              <p:nvPr/>
            </p:nvSpPr>
            <p:spPr>
              <a:xfrm>
                <a:off x="48006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49021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8" name=""/>
          <p:cNvGrpSpPr/>
          <p:nvPr/>
        </p:nvGrpSpPr>
        <p:grpSpPr>
          <a:xfrm>
            <a:off x="609480" y="4876560"/>
            <a:ext cx="8229600" cy="1882080"/>
            <a:chOff x="609480" y="4876560"/>
            <a:chExt cx="8229600" cy="1882080"/>
          </a:xfrm>
        </p:grpSpPr>
        <p:grpSp>
          <p:nvGrpSpPr>
            <p:cNvPr id="1129" name=""/>
            <p:cNvGrpSpPr/>
            <p:nvPr/>
          </p:nvGrpSpPr>
          <p:grpSpPr>
            <a:xfrm>
              <a:off x="609480" y="4876560"/>
              <a:ext cx="8229600" cy="1882080"/>
              <a:chOff x="609480" y="4876560"/>
              <a:chExt cx="8229600" cy="1882080"/>
            </a:xfrm>
          </p:grpSpPr>
          <p:sp>
            <p:nvSpPr>
              <p:cNvPr id="1130" name=""/>
              <p:cNvSpPr/>
              <p:nvPr/>
            </p:nvSpPr>
            <p:spPr>
              <a:xfrm>
                <a:off x="609480" y="6248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"/>
              <p:cNvGrpSpPr/>
              <p:nvPr/>
            </p:nvGrpSpPr>
            <p:grpSpPr>
              <a:xfrm>
                <a:off x="6019920" y="4876560"/>
                <a:ext cx="304200" cy="304560"/>
                <a:chOff x="6019920" y="4876560"/>
                <a:chExt cx="304200" cy="3045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019920" y="50796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V="1">
                  <a:off x="6121440" y="4876560"/>
                  <a:ext cx="20268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4" name=""/>
            <p:cNvSpPr/>
            <p:nvPr/>
          </p:nvSpPr>
          <p:spPr>
            <a:xfrm>
              <a:off x="68580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533520" y="1295280"/>
            <a:ext cx="8229600" cy="1180800"/>
            <a:chOff x="533520" y="1295280"/>
            <a:chExt cx="8229600" cy="1180800"/>
          </a:xfrm>
        </p:grpSpPr>
        <p:sp>
          <p:nvSpPr>
            <p:cNvPr id="1139" name=""/>
            <p:cNvSpPr/>
            <p:nvPr/>
          </p:nvSpPr>
          <p:spPr>
            <a:xfrm>
              <a:off x="533520" y="1600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1141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3" name=""/>
          <p:cNvGrpSpPr/>
          <p:nvPr/>
        </p:nvGrpSpPr>
        <p:grpSpPr>
          <a:xfrm>
            <a:off x="533520" y="1295280"/>
            <a:ext cx="8229600" cy="1577160"/>
            <a:chOff x="533520" y="1295280"/>
            <a:chExt cx="8229600" cy="1577160"/>
          </a:xfrm>
        </p:grpSpPr>
        <p:grpSp>
          <p:nvGrpSpPr>
            <p:cNvPr id="1144" name=""/>
            <p:cNvGrpSpPr/>
            <p:nvPr/>
          </p:nvGrpSpPr>
          <p:grpSpPr>
            <a:xfrm>
              <a:off x="533520" y="1295280"/>
              <a:ext cx="8229600" cy="1577160"/>
              <a:chOff x="533520" y="1295280"/>
              <a:chExt cx="8229600" cy="1577160"/>
            </a:xfrm>
          </p:grpSpPr>
          <p:sp>
            <p:nvSpPr>
              <p:cNvPr id="1145" name=""/>
              <p:cNvSpPr/>
              <p:nvPr/>
            </p:nvSpPr>
            <p:spPr>
              <a:xfrm>
                <a:off x="533520" y="23623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4724280" y="1295280"/>
                <a:ext cx="304560" cy="304560"/>
                <a:chOff x="4724280" y="1295280"/>
                <a:chExt cx="304560" cy="30456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72428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V="1">
                  <a:off x="482580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9" name=""/>
            <p:cNvSpPr/>
            <p:nvPr/>
          </p:nvSpPr>
          <p:spPr>
            <a:xfrm>
              <a:off x="609480" y="2819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533520" y="2819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533520" y="2971800"/>
            <a:ext cx="8229600" cy="764640"/>
            <a:chOff x="533520" y="2971800"/>
            <a:chExt cx="8229600" cy="764640"/>
          </a:xfrm>
        </p:grpSpPr>
        <p:sp>
          <p:nvSpPr>
            <p:cNvPr id="1152" name=""/>
            <p:cNvSpPr/>
            <p:nvPr/>
          </p:nvSpPr>
          <p:spPr>
            <a:xfrm>
              <a:off x="533520" y="327672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3581280" y="2971800"/>
              <a:ext cx="304560" cy="304560"/>
              <a:chOff x="3581280" y="2971800"/>
              <a:chExt cx="304560" cy="304560"/>
            </a:xfrm>
          </p:grpSpPr>
          <p:sp>
            <p:nvSpPr>
              <p:cNvPr id="1154" name=""/>
              <p:cNvSpPr/>
              <p:nvPr/>
            </p:nvSpPr>
            <p:spPr>
              <a:xfrm>
                <a:off x="3581280" y="31748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3682800" y="29718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6" name=""/>
          <p:cNvGrpSpPr/>
          <p:nvPr/>
        </p:nvGrpSpPr>
        <p:grpSpPr>
          <a:xfrm>
            <a:off x="533520" y="2971800"/>
            <a:ext cx="8229600" cy="1220760"/>
            <a:chOff x="533520" y="2971800"/>
            <a:chExt cx="8229600" cy="1220760"/>
          </a:xfrm>
        </p:grpSpPr>
        <p:grpSp>
          <p:nvGrpSpPr>
            <p:cNvPr id="1157" name=""/>
            <p:cNvGrpSpPr/>
            <p:nvPr/>
          </p:nvGrpSpPr>
          <p:grpSpPr>
            <a:xfrm>
              <a:off x="533520" y="2971800"/>
              <a:ext cx="8229600" cy="1195920"/>
              <a:chOff x="533520" y="2971800"/>
              <a:chExt cx="8229600" cy="1195920"/>
            </a:xfrm>
          </p:grpSpPr>
          <p:sp>
            <p:nvSpPr>
              <p:cNvPr id="1158" name=""/>
              <p:cNvSpPr/>
              <p:nvPr/>
            </p:nvSpPr>
            <p:spPr>
              <a:xfrm>
                <a:off x="533520" y="365760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9" name=""/>
              <p:cNvGrpSpPr/>
              <p:nvPr/>
            </p:nvGrpSpPr>
            <p:grpSpPr>
              <a:xfrm>
                <a:off x="5105520" y="2971800"/>
                <a:ext cx="304200" cy="304560"/>
                <a:chOff x="5105520" y="2971800"/>
                <a:chExt cx="304200" cy="30456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5105520" y="3174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V="1">
                  <a:off x="5207040" y="29718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2" name=""/>
            <p:cNvSpPr/>
            <p:nvPr/>
          </p:nvSpPr>
          <p:spPr>
            <a:xfrm>
              <a:off x="609480" y="41911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533520" y="4191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533520" y="4343400"/>
            <a:ext cx="8229600" cy="764640"/>
            <a:chOff x="533520" y="4343400"/>
            <a:chExt cx="8229600" cy="764640"/>
          </a:xfrm>
        </p:grpSpPr>
        <p:grpSp>
          <p:nvGrpSpPr>
            <p:cNvPr id="1165" name=""/>
            <p:cNvGrpSpPr/>
            <p:nvPr/>
          </p:nvGrpSpPr>
          <p:grpSpPr>
            <a:xfrm>
              <a:off x="533520" y="4343400"/>
              <a:ext cx="8229600" cy="764640"/>
              <a:chOff x="533520" y="4343400"/>
              <a:chExt cx="8229600" cy="764640"/>
            </a:xfrm>
          </p:grpSpPr>
          <p:sp>
            <p:nvSpPr>
              <p:cNvPr id="1166" name=""/>
              <p:cNvSpPr/>
              <p:nvPr/>
            </p:nvSpPr>
            <p:spPr>
              <a:xfrm>
                <a:off x="533520" y="46483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7" name=""/>
              <p:cNvGrpSpPr/>
              <p:nvPr/>
            </p:nvGrpSpPr>
            <p:grpSpPr>
              <a:xfrm>
                <a:off x="3733920" y="4343400"/>
                <a:ext cx="304200" cy="304560"/>
                <a:chOff x="3733920" y="4343400"/>
                <a:chExt cx="304200" cy="30456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3733920" y="45464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V="1">
                  <a:off x="3835440" y="43434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0" name=""/>
            <p:cNvSpPr/>
            <p:nvPr/>
          </p:nvSpPr>
          <p:spPr>
            <a:xfrm>
              <a:off x="609480" y="5105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53352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533520" y="5257800"/>
            <a:ext cx="8229600" cy="764640"/>
            <a:chOff x="533520" y="5257800"/>
            <a:chExt cx="8229600" cy="764640"/>
          </a:xfrm>
        </p:grpSpPr>
        <p:grpSp>
          <p:nvGrpSpPr>
            <p:cNvPr id="1173" name=""/>
            <p:cNvGrpSpPr/>
            <p:nvPr/>
          </p:nvGrpSpPr>
          <p:grpSpPr>
            <a:xfrm>
              <a:off x="533520" y="5257800"/>
              <a:ext cx="8229600" cy="764640"/>
              <a:chOff x="533520" y="5257800"/>
              <a:chExt cx="8229600" cy="764640"/>
            </a:xfrm>
          </p:grpSpPr>
          <p:sp>
            <p:nvSpPr>
              <p:cNvPr id="1174" name=""/>
              <p:cNvSpPr/>
              <p:nvPr/>
            </p:nvSpPr>
            <p:spPr>
              <a:xfrm>
                <a:off x="533520" y="55627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5" name=""/>
              <p:cNvGrpSpPr/>
              <p:nvPr/>
            </p:nvGrpSpPr>
            <p:grpSpPr>
              <a:xfrm>
                <a:off x="3581280" y="5257800"/>
                <a:ext cx="304560" cy="304560"/>
                <a:chOff x="3581280" y="5257800"/>
                <a:chExt cx="304560" cy="30456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3581280" y="5460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V="1">
                  <a:off x="3682800" y="52578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8" name=""/>
            <p:cNvSpPr/>
            <p:nvPr/>
          </p:nvSpPr>
          <p:spPr>
            <a:xfrm>
              <a:off x="609480" y="60199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206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209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212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215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218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221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304920" y="4114440"/>
            <a:ext cx="304200" cy="305280"/>
            <a:chOff x="304920" y="4114440"/>
            <a:chExt cx="304200" cy="305280"/>
          </a:xfrm>
        </p:grpSpPr>
        <p:sp>
          <p:nvSpPr>
            <p:cNvPr id="1224" name=""/>
            <p:cNvSpPr/>
            <p:nvPr/>
          </p:nvSpPr>
          <p:spPr>
            <a:xfrm>
              <a:off x="304920" y="4318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406080" y="4114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304920" y="4800240"/>
            <a:ext cx="304200" cy="305280"/>
            <a:chOff x="304920" y="4800240"/>
            <a:chExt cx="304200" cy="305280"/>
          </a:xfrm>
        </p:grpSpPr>
        <p:sp>
          <p:nvSpPr>
            <p:cNvPr id="1227" name=""/>
            <p:cNvSpPr/>
            <p:nvPr/>
          </p:nvSpPr>
          <p:spPr>
            <a:xfrm>
              <a:off x="304920" y="5004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406080" y="4800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304920" y="5181120"/>
            <a:ext cx="304200" cy="305280"/>
            <a:chOff x="304920" y="5181120"/>
            <a:chExt cx="304200" cy="305280"/>
          </a:xfrm>
        </p:grpSpPr>
        <p:sp>
          <p:nvSpPr>
            <p:cNvPr id="1230" name=""/>
            <p:cNvSpPr/>
            <p:nvPr/>
          </p:nvSpPr>
          <p:spPr>
            <a:xfrm>
              <a:off x="304920" y="5384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406080" y="5181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304920" y="5562720"/>
            <a:ext cx="304200" cy="304560"/>
            <a:chOff x="304920" y="5562720"/>
            <a:chExt cx="304200" cy="304560"/>
          </a:xfrm>
        </p:grpSpPr>
        <p:sp>
          <p:nvSpPr>
            <p:cNvPr id="1233" name=""/>
            <p:cNvSpPr/>
            <p:nvPr/>
          </p:nvSpPr>
          <p:spPr>
            <a:xfrm>
              <a:off x="304920" y="57657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406080" y="55627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304920" y="5943240"/>
            <a:ext cx="304200" cy="305280"/>
            <a:chOff x="304920" y="5943240"/>
            <a:chExt cx="304200" cy="305280"/>
          </a:xfrm>
        </p:grpSpPr>
        <p:sp>
          <p:nvSpPr>
            <p:cNvPr id="1236" name=""/>
            <p:cNvSpPr/>
            <p:nvPr/>
          </p:nvSpPr>
          <p:spPr>
            <a:xfrm>
              <a:off x="304920" y="6147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406080" y="5943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304920" y="6324120"/>
            <a:ext cx="304200" cy="305280"/>
            <a:chOff x="304920" y="6324120"/>
            <a:chExt cx="304200" cy="305280"/>
          </a:xfrm>
        </p:grpSpPr>
        <p:sp>
          <p:nvSpPr>
            <p:cNvPr id="1239" name=""/>
            <p:cNvSpPr/>
            <p:nvPr/>
          </p:nvSpPr>
          <p:spPr>
            <a:xfrm>
              <a:off x="304920" y="6527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406080" y="6324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33520" y="1143000"/>
            <a:ext cx="830556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LR-tabl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Action part,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Go-to par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33520" y="2286000"/>
            <a:ext cx="861048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Of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tarting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at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a label of rul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Construction of LR-table: Algorith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7524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739880" y="3048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752480" y="3809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752480" y="457200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752480" y="5334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248520" y="2819520"/>
            <a:ext cx="374400" cy="635040"/>
          </a:xfrm>
          <a:custGeom>
            <a:avLst/>
            <a:gdLst/>
            <a:ahLst/>
            <a:rect l="l" t="t" r="r" b="b"/>
            <a:pathLst>
              <a:path w="236" h="400">
                <a:moveTo>
                  <a:pt x="216" y="400"/>
                </a:moveTo>
                <a:cubicBezTo>
                  <a:pt x="213" y="376"/>
                  <a:pt x="236" y="331"/>
                  <a:pt x="200" y="264"/>
                </a:cubicBezTo>
                <a:cubicBezTo>
                  <a:pt x="164" y="197"/>
                  <a:pt x="42" y="55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400800" y="2857680"/>
            <a:ext cx="757080" cy="1295280"/>
          </a:xfrm>
          <a:custGeom>
            <a:avLst/>
            <a:gdLst/>
            <a:ahLst/>
            <a:rect l="l" t="t" r="r" b="b"/>
            <a:pathLst>
              <a:path w="477" h="816">
                <a:moveTo>
                  <a:pt x="416" y="816"/>
                </a:moveTo>
                <a:cubicBezTo>
                  <a:pt x="416" y="745"/>
                  <a:pt x="477" y="528"/>
                  <a:pt x="408" y="392"/>
                </a:cubicBezTo>
                <a:cubicBezTo>
                  <a:pt x="339" y="256"/>
                  <a:pt x="85" y="82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137360" y="2819520"/>
            <a:ext cx="639720" cy="2958840"/>
          </a:xfrm>
          <a:custGeom>
            <a:avLst/>
            <a:gdLst/>
            <a:ahLst/>
            <a:rect l="l" t="t" r="r" b="b"/>
            <a:pathLst>
              <a:path w="403" h="1864">
                <a:moveTo>
                  <a:pt x="0" y="1864"/>
                </a:moveTo>
                <a:cubicBezTo>
                  <a:pt x="63" y="1720"/>
                  <a:pt x="381" y="1311"/>
                  <a:pt x="392" y="1000"/>
                </a:cubicBezTo>
                <a:cubicBezTo>
                  <a:pt x="403" y="689"/>
                  <a:pt x="132" y="208"/>
                  <a:pt x="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908760" y="2819520"/>
            <a:ext cx="563760" cy="2222280"/>
          </a:xfrm>
          <a:custGeom>
            <a:avLst/>
            <a:gdLst/>
            <a:ahLst/>
            <a:rect l="l" t="t" r="r" b="b"/>
            <a:pathLst>
              <a:path w="355" h="1400">
                <a:moveTo>
                  <a:pt x="0" y="1400"/>
                </a:moveTo>
                <a:cubicBezTo>
                  <a:pt x="57" y="1337"/>
                  <a:pt x="317" y="1257"/>
                  <a:pt x="336" y="1024"/>
                </a:cubicBezTo>
                <a:cubicBezTo>
                  <a:pt x="355" y="791"/>
                  <a:pt x="159" y="213"/>
                  <a:pt x="11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52480" y="6095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946920" y="2895480"/>
            <a:ext cx="1471680" cy="3708360"/>
          </a:xfrm>
          <a:custGeom>
            <a:avLst/>
            <a:gdLst/>
            <a:ahLst/>
            <a:rect l="l" t="t" r="r" b="b"/>
            <a:pathLst>
              <a:path w="927" h="2336">
                <a:moveTo>
                  <a:pt x="0" y="2336"/>
                </a:moveTo>
                <a:cubicBezTo>
                  <a:pt x="135" y="2152"/>
                  <a:pt x="705" y="1621"/>
                  <a:pt x="816" y="1232"/>
                </a:cubicBezTo>
                <a:cubicBezTo>
                  <a:pt x="927" y="843"/>
                  <a:pt x="696" y="257"/>
                  <a:pt x="6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752480" y="3581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752480" y="41148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52480" y="50292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267080" y="2895480"/>
            <a:ext cx="2565360" cy="1549440"/>
          </a:xfrm>
          <a:custGeom>
            <a:avLst/>
            <a:gdLst/>
            <a:ahLst/>
            <a:rect l="l" t="t" r="r" b="b"/>
            <a:pathLst>
              <a:path w="1616" h="976">
                <a:moveTo>
                  <a:pt x="1616" y="976"/>
                </a:moveTo>
                <a:cubicBezTo>
                  <a:pt x="1565" y="893"/>
                  <a:pt x="1581" y="643"/>
                  <a:pt x="1312" y="480"/>
                </a:cubicBezTo>
                <a:cubicBezTo>
                  <a:pt x="1043" y="317"/>
                  <a:pt x="273" y="10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955880" y="2882880"/>
            <a:ext cx="6195960" cy="2514600"/>
          </a:xfrm>
          <a:custGeom>
            <a:avLst/>
            <a:gdLst/>
            <a:ahLst/>
            <a:rect l="l" t="t" r="r" b="b"/>
            <a:pathLst>
              <a:path w="3903" h="1584">
                <a:moveTo>
                  <a:pt x="2936" y="1584"/>
                </a:moveTo>
                <a:cubicBezTo>
                  <a:pt x="3033" y="1469"/>
                  <a:pt x="3903" y="1107"/>
                  <a:pt x="3520" y="896"/>
                </a:cubicBezTo>
                <a:cubicBezTo>
                  <a:pt x="3137" y="685"/>
                  <a:pt x="1227" y="469"/>
                  <a:pt x="640" y="320"/>
                </a:cubicBezTo>
                <a:cubicBezTo>
                  <a:pt x="53" y="171"/>
                  <a:pt x="133" y="6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685800" y="2819520"/>
            <a:ext cx="7772400" cy="304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3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752480" y="3657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752480" y="4114800"/>
            <a:ext cx="7391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752480" y="487692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651640" y="3111480"/>
            <a:ext cx="1511280" cy="1015920"/>
          </a:xfrm>
          <a:custGeom>
            <a:avLst/>
            <a:gdLst/>
            <a:ahLst/>
            <a:rect l="l" t="t" r="r" b="b"/>
            <a:pathLst>
              <a:path w="896" h="640">
                <a:moveTo>
                  <a:pt x="896" y="640"/>
                </a:moveTo>
                <a:cubicBezTo>
                  <a:pt x="852" y="584"/>
                  <a:pt x="789" y="411"/>
                  <a:pt x="640" y="304"/>
                </a:cubicBezTo>
                <a:cubicBezTo>
                  <a:pt x="491" y="197"/>
                  <a:pt x="133" y="63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55800" y="3137040"/>
            <a:ext cx="5473800" cy="2044440"/>
          </a:xfrm>
          <a:custGeom>
            <a:avLst/>
            <a:gdLst/>
            <a:ahLst/>
            <a:rect l="l" t="t" r="r" b="b"/>
            <a:pathLst>
              <a:path w="3421" h="1232">
                <a:moveTo>
                  <a:pt x="2888" y="1232"/>
                </a:moveTo>
                <a:cubicBezTo>
                  <a:pt x="2928" y="1109"/>
                  <a:pt x="3421" y="632"/>
                  <a:pt x="3128" y="488"/>
                </a:cubicBezTo>
                <a:cubicBezTo>
                  <a:pt x="2835" y="344"/>
                  <a:pt x="1649" y="449"/>
                  <a:pt x="1128" y="368"/>
                </a:cubicBezTo>
                <a:cubicBezTo>
                  <a:pt x="607" y="287"/>
                  <a:pt x="235" y="7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143000"/>
            <a:ext cx="80010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two distinct nonterminals have the same hand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rul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4574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800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3886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457440"/>
            <a:ext cx="533520" cy="2743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4343400"/>
            <a:ext cx="320040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2743200"/>
            <a:ext cx="4419720" cy="544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ecedence-t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98108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CFG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43434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257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5715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29718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29718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3457440"/>
            <a:ext cx="320040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43434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3505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lustration of meaning of &lt;, =, &gt;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3505320"/>
            <a:ext cx="0" cy="28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350532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449568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514240" y="3276720"/>
            <a:ext cx="19810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24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326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792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000640" y="51814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5328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54100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96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24680" y="5791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695720" y="5791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43800" y="57913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5943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876920" y="51814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525780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6386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410080" y="56386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181120" y="563868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769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502920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54100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629040" y="54100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400800" y="54100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5562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685800" y="3098880"/>
            <a:ext cx="7772400" cy="266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4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752480" y="36576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752480" y="4114800"/>
            <a:ext cx="73915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rule with 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752480" y="541008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657600" y="3352680"/>
            <a:ext cx="5275440" cy="2438640"/>
          </a:xfrm>
          <a:custGeom>
            <a:avLst/>
            <a:gdLst/>
            <a:ahLst/>
            <a:rect l="l" t="t" r="r" b="b"/>
            <a:pathLst>
              <a:path w="3323" h="1536">
                <a:moveTo>
                  <a:pt x="2416" y="1536"/>
                </a:moveTo>
                <a:cubicBezTo>
                  <a:pt x="2532" y="1357"/>
                  <a:pt x="3323" y="656"/>
                  <a:pt x="3120" y="472"/>
                </a:cubicBezTo>
                <a:cubicBezTo>
                  <a:pt x="2917" y="288"/>
                  <a:pt x="1720" y="511"/>
                  <a:pt x="1200" y="432"/>
                </a:cubicBezTo>
                <a:cubicBezTo>
                  <a:pt x="680" y="353"/>
                  <a:pt x="250" y="9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2209680" y="3048120"/>
            <a:ext cx="3886200" cy="361800"/>
            <a:chOff x="2209680" y="3048120"/>
            <a:chExt cx="3886200" cy="361800"/>
          </a:xfrm>
        </p:grpSpPr>
        <p:sp>
          <p:nvSpPr>
            <p:cNvPr id="1386" name=""/>
            <p:cNvSpPr/>
            <p:nvPr/>
          </p:nvSpPr>
          <p:spPr>
            <a:xfrm>
              <a:off x="2209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495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1814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2971800" y="30481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2641680" y="3365640"/>
            <a:ext cx="5742000" cy="1307880"/>
            <a:chOff x="2641680" y="3365640"/>
            <a:chExt cx="5742000" cy="1307880"/>
          </a:xfrm>
        </p:grpSpPr>
        <p:sp>
          <p:nvSpPr>
            <p:cNvPr id="1391" name=""/>
            <p:cNvSpPr/>
            <p:nvPr/>
          </p:nvSpPr>
          <p:spPr>
            <a:xfrm>
              <a:off x="5676840" y="3365640"/>
              <a:ext cx="2706840" cy="1307880"/>
            </a:xfrm>
            <a:custGeom>
              <a:avLst/>
              <a:gdLst/>
              <a:ahLst/>
              <a:rect l="l" t="t" r="r" b="b"/>
              <a:pathLst>
                <a:path w="1705" h="824">
                  <a:moveTo>
                    <a:pt x="640" y="824"/>
                  </a:moveTo>
                  <a:cubicBezTo>
                    <a:pt x="800" y="796"/>
                    <a:pt x="1511" y="752"/>
                    <a:pt x="1608" y="656"/>
                  </a:cubicBezTo>
                  <a:cubicBezTo>
                    <a:pt x="1705" y="560"/>
                    <a:pt x="1384" y="341"/>
                    <a:pt x="1224" y="248"/>
                  </a:cubicBezTo>
                  <a:cubicBezTo>
                    <a:pt x="1064" y="155"/>
                    <a:pt x="852" y="137"/>
                    <a:pt x="648" y="96"/>
                  </a:cubicBezTo>
                  <a:cubicBezTo>
                    <a:pt x="444" y="55"/>
                    <a:pt x="13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978440" y="3365640"/>
              <a:ext cx="1600200" cy="241200"/>
            </a:xfrm>
            <a:custGeom>
              <a:avLst/>
              <a:gdLst/>
              <a:ahLst/>
              <a:rect l="l" t="t" r="r" b="b"/>
              <a:pathLst>
                <a:path w="1008" h="152">
                  <a:moveTo>
                    <a:pt x="1008" y="96"/>
                  </a:moveTo>
                  <a:cubicBezTo>
                    <a:pt x="925" y="103"/>
                    <a:pt x="672" y="152"/>
                    <a:pt x="504" y="136"/>
                  </a:cubicBezTo>
                  <a:cubicBezTo>
                    <a:pt x="336" y="120"/>
                    <a:pt x="105" y="28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641680" y="3403440"/>
              <a:ext cx="3962160" cy="500400"/>
            </a:xfrm>
            <a:custGeom>
              <a:avLst/>
              <a:gdLst/>
              <a:ahLst/>
              <a:rect l="l" t="t" r="r" b="b"/>
              <a:pathLst>
                <a:path w="2496" h="315">
                  <a:moveTo>
                    <a:pt x="2496" y="64"/>
                  </a:moveTo>
                  <a:cubicBezTo>
                    <a:pt x="2257" y="104"/>
                    <a:pt x="1480" y="315"/>
                    <a:pt x="1064" y="304"/>
                  </a:cubicBezTo>
                  <a:cubicBezTo>
                    <a:pt x="648" y="293"/>
                    <a:pt x="222" y="63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1752480" y="61722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5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00200" y="243828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33520" y="281952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600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1952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209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495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04812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862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447920" y="2819520"/>
            <a:ext cx="91440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05740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86728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410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89548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733920" y="2819520"/>
            <a:ext cx="91440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343400" y="2819520"/>
            <a:ext cx="121932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410080" y="2819520"/>
            <a:ext cx="6098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791320" y="2819520"/>
            <a:ext cx="9144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477120" y="2819520"/>
            <a:ext cx="12189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467480" y="2819520"/>
            <a:ext cx="106704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752480" y="2438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50520" y="1143000"/>
            <a:ext cx="3889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a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553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5438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458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600200" y="182880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971800" y="17524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477120" y="1752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 th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971800" y="2133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7180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429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971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971800" y="25146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971800" y="6095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886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3434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0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257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862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715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72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3434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8006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257800" y="251460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715000" y="251460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086600" y="2514600"/>
            <a:ext cx="304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543800" y="2514600"/>
            <a:ext cx="3049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001000" y="251460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8954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5530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0102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5530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4674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9246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83818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6553080" y="6095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6553080" y="2514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47712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55308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048120" y="1371600"/>
            <a:ext cx="4419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895480" y="137160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able for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th the renamed st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666880" y="129528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62120" y="1143000"/>
            <a:ext cx="167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ename the stat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09480" y="2438280"/>
            <a:ext cx="129564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7524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62120" y="2133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3623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621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5146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6765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6212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l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981080"/>
            <a:ext cx="86104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topmost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termin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 &amp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p string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eplace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blank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perator-Precedence Parser: Algorith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Operator-Precedence Parser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9810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3228840"/>
            <a:ext cx="2286000" cy="27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066680"/>
            <a:ext cx="82296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7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1981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perator associativity and precedence rules underlie the precedence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16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5486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915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9246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001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29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96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086240" y="40384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91520" y="4038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1520" y="4038480"/>
            <a:ext cx="5331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2468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2468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695720" y="47242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769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5486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00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181480" y="411480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5000" y="41148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41148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5520" y="4724280"/>
            <a:ext cx="30456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80024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3228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3686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9320" y="41432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46004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5057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19320" y="5514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00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00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0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8108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6232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43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43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05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05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0532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0532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23115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-850320" y="4203000"/>
            <a:ext cx="365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ush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d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down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 topmost to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1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952520" y="6629400"/>
            <a:ext cx="83844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162920" y="6629400"/>
            <a:ext cx="8380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43600" y="4648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24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38680" y="4191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724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153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0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8720" y="4724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15200" y="4038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95680" y="198108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ong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Operator-Precedence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arsing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879800"/>
            <a:ext cx="22100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* 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714680"/>
                <a:tab algn="l" pos="228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0532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530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5820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16765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198108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60199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1905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43600" y="5791320"/>
            <a:ext cx="274320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4495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705720" y="2057400"/>
            <a:ext cx="0" cy="3657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17049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28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09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71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1704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21621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2619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3076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53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3990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7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28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28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09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09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09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09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90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90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90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71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7180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7180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05320" y="220968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29718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05320" y="327672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3657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05320" y="4038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4419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4800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05320" y="5181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05320" y="54864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1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219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12193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143000"/>
            <a:ext cx="84582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37339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2819520"/>
            <a:ext cx="74674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re identifi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36576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Precedenc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operator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4038480"/>
            <a:ext cx="7620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higher preced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27080" y="456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72000"/>
            <a:ext cx="380988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012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0120" y="5743440"/>
            <a:ext cx="76176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00100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238880" y="57434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238880" y="6200640"/>
            <a:ext cx="38124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6168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01000" y="57117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5105520"/>
            <a:ext cx="65530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precedence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6035760"/>
            <a:ext cx="1044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1992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2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Associativit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2703600"/>
            <a:ext cx="762012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al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igh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72400" y="5381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2400" y="5867280"/>
            <a:ext cx="76212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153280" y="53816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91520" y="586728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91520" y="6324480"/>
            <a:ext cx="38088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72400" y="58514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53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1539720"/>
            <a:ext cx="777240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lef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righ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270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38280" y="365760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8280" y="464832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05320" y="6108840"/>
            <a:ext cx="3504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7220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5181480"/>
            <a:ext cx="67816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ssociativity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8:33Z</dcterms:modified>
  <cp:revision>288</cp:revision>
  <dc:subject/>
  <dc:title>Bottom-Up Parsing</dc:title>
</cp:coreProperties>
</file>